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wmf" ContentType="image/x-wmf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65C-BC1C-48C3-89DC-C281E753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F9F-897A-4053-8A53-6A40E648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20F-9E7E-4A22-8B27-6A29116A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915-0F62-4D48-B23B-0926B4C2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778-AD11-4AD8-96B8-C194133E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81C-1D8D-46A8-8C19-12AD11EB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0B7-8B60-4778-BD45-934AB2E7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994-D096-40A9-AA53-06EB86DC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1B1-810D-4A25-8665-1A543AE1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4D1-7CA4-4BC5-BE27-D9E47CFB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3DF-D0CA-476E-BF1A-326B19AA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8C2-7F98-4D44-ADEF-3AD20FF9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A535-192D-437D-A0D3-18C602822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Kimpel Sympos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e 18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Weather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n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storic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6705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 John Snow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n, College of Atmospheric and Geographic Sci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ional Weather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 Renee McPhers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m State Climatolog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klahoma Climate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 Kelvin Droegemeie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VP for Re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nter for the Analysis and Prediction of 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 Peter La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 of CIMM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M Climate Research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Heim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O Part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ased Array R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 Fred Ca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, School of Meteor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hool of Meteor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48440" y="1143000"/>
            <a:ext cx="1104840" cy="1104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20160" y="3657600"/>
            <a:ext cx="947520" cy="1219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997760" y="1905120"/>
            <a:ext cx="1019160" cy="1218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270920" y="2819520"/>
            <a:ext cx="882360" cy="1218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467480" y="4648320"/>
            <a:ext cx="995400" cy="1066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062920" y="5486400"/>
            <a:ext cx="1001880" cy="1371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uture 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glas Forsy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ef RRDD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da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 David Stensr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ef FRD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rn-on-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 David Jorgense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ef WRD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ydrometeo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51754" t="42895" r="16811" b="12674"/>
          <a:stretch/>
        </p:blipFill>
        <p:spPr>
          <a:xfrm>
            <a:off x="7031160" y="1143000"/>
            <a:ext cx="1807920" cy="1828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10280" y="3276720"/>
            <a:ext cx="1828800" cy="1485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4992840"/>
            <a:ext cx="1828800" cy="1506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 Alexander MacDona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 Assistant Administrator for Oceans and Atmospheric Research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 James “Jeff” Kimp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SL Director (retired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ponse and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pm – Reception in At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67480" y="3733920"/>
            <a:ext cx="1575000" cy="2361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467480" y="1143000"/>
            <a:ext cx="1623960" cy="236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064040" cy="6095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Thank Today’s Spo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3:20:28Z</dcterms:created>
  <dc:creator>kevin.kelleher</dc:creator>
  <dc:description/>
  <dc:language>en-US</dc:language>
  <cp:lastModifiedBy>kevin.kelleher</cp:lastModifiedBy>
  <dcterms:modified xsi:type="dcterms:W3CDTF">2010-06-18T16:23:32Z</dcterms:modified>
  <cp:revision>8</cp:revision>
  <dc:subject/>
  <dc:title>Kimpel Symposium</dc:title>
</cp:coreProperties>
</file>